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D01-28FB-4731-82FF-3DF8583A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8D4-A815-4268-9ACC-5776B7D1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9D5-E428-4F50-9CD8-76FEA7FE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8D7-B61A-42E4-9D1D-5BBCC16A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1F14-8C7C-471E-BF06-3C38C851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4505-6736-482D-9513-288EFF49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6190-0DE1-4507-89C6-74ABDE54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17DB-5388-4A7B-ACAC-FCE01436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F866-E61B-4994-963C-1C913F0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57AF-4D9E-4228-93AA-884EDE8D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ED60-233A-49F8-B8B9-0BA9B78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18F-B81E-4208-9160-B1D2EDF1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AFC-E676-4DD3-B047-E5F9473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3AD-24F4-4240-B0F0-B2715DF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B01-3D43-4169-B27C-F8B37BC3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3B68-16C6-4DD9-A621-F6803A8D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CFC2-587A-4B7F-AED1-25858F47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B30-9B7C-42FF-84D7-50771111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389-0490-47CB-9B05-A6A5C7DA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72A-7717-4543-BA9E-64ACA351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BE9-9B4A-4DA3-88BE-40018B5C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D2C-5E8B-4A48-AC86-3A39A8C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C72-A9E8-4CA6-8109-A8025517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144-DEDD-4FEC-BE3B-F43B995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67A7-5151-4374-832F-F94397D51A91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53" name="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54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977280" y="-853200"/>
                <a:ext cx="1722600" cy="342900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C75B-8734-4A0C-BD44-05740E49F8AA}" type="slidenum">
              <a:rPr b="0" lang="en-US" sz="1400" spc="-1" strike="noStrike">
                <a:solidFill>
                  <a:srgbClr val="ebd18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Kelley Ritter User</cp:lastModifiedBy>
  <cp:lastPrinted>2009-04-22T19:24:48Z</cp:lastPrinted>
  <dcterms:modified xsi:type="dcterms:W3CDTF">2008-04-14T21:12:59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